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316-DB56-4124-AEDB-067DF7D1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A97-90EE-4D0B-A63F-751A66C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BFE-1137-4685-B8F2-B406131F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CEC-3C69-4A44-8593-C86DBD8B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C5F-05EA-4039-BC19-ADB56E6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2E9-F30C-4BE5-A263-45B3CD04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581-EFD4-4EE7-BE0C-E7B9480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7DB-9890-4F18-A140-A73B2269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3E3-8F34-4BA2-AD5A-3D07113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021-F2FF-4A0C-95CC-CE354A2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86B-3904-4C03-B897-09C8A35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C6B-213E-4C9C-ABE0-C4D8F4F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9523-E909-4959-9C15-F57ECCB8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Oakley, Inc. account for a credit transaction to its distributors the same way that it does for a retail custo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 write-off method for uncollectible accounts is used mostly by companies with a large amount of receiv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ote is said to be dishonored when it is not paid in full at the maturity d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ceivables that are expected to be realized in cash within one year are reported in the current assets section of the balanc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eivable for which a formal, written instrument of credit is issued is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eceiv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actoring arrangement, the risk of uncollectible accounts is born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buying the accounts receivable (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company buying and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the company buying nor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ethods commonly used to estimate uncollectible accounts receivable at the end of a period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total assets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sales and analysis of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current assets and percent of total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net income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wance for Doubtful Accounts is classified as a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lance in Allowance for Doubtful Accounts is not considered when computing bad debts us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write-off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eceivab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sa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allowance method, the journal entry to record the company’s estimate of uncollectible accounts include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751040"/>
          <a:ext cx="448308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1040"/>
                    <a:ext cx="448308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Bad Debts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alysis of receivable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114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percent of sa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use an allowanc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analysis of receivab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by small companies and companies with relatively few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st companies such as Oakley, Inc. provide services and sales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terest on a $10,000, 10%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-month note receivabl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that is due on the due date of a notes receivable and represents the sum of the face value and the interest is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it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em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realizabl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ustomer dishonors a note receivable, the amount that is transferred back to an accounts receivable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original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mount to be collected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note plus any 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41240"/>
            <a:ext cx="8305920" cy="2839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amount of the adjusting entry for uncollectible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9625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2544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662040"/>
            <a:ext cx="8305920" cy="2609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(b) the adjusted balances of Accounts Receivable, Allowance for Doubtful Accounts, and Bad Debt Exp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524400"/>
          <a:ext cx="8229600" cy="2803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792,5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572000" cy="4648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792,5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8431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8"/>
          <p:cNvSpPr/>
          <p:nvPr/>
        </p:nvSpPr>
        <p:spPr>
          <a:xfrm>
            <a:off x="457200" y="2428920"/>
            <a:ext cx="8305920" cy="520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aturity value of the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320040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2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3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19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2,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9493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0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5"/>
          <p:cNvSpPr/>
          <p:nvPr/>
        </p:nvSpPr>
        <p:spPr>
          <a:xfrm>
            <a:off x="457200" y="4281480"/>
            <a:ext cx="8305920" cy="969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57200" y="2655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Oakley, Inc. collect on all of their credit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891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5143680" y="2514600"/>
          <a:ext cx="38620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514600"/>
                    <a:ext cx="3862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457200" y="574560"/>
            <a:ext cx="830592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" y="182880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457200" y="12193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56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ervice companies and merchandising companies use the same rules for recording and reporting accounts receivable trans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mall and large companies use the same rules for recording and reporting accounts receivable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s Receivable is credited when a company has a credit s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of accounting for uncollectibles are the direct write-off method and the allowanc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83672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3672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allowance method, Bad Debt Expense is recorded by estimating uncollectible accounts at the end of the account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osing entry reduces receivables to their net realizable value and reduces the uncollectible expense with reven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02:36Z</dcterms:created>
  <dc:creator> </dc:creator>
  <dc:description/>
  <dc:language>en-US</dc:language>
  <cp:lastModifiedBy>Leslie</cp:lastModifiedBy>
  <dcterms:modified xsi:type="dcterms:W3CDTF">2008-12-30T03:05:39Z</dcterms:modified>
  <cp:revision>47</cp:revision>
  <dc:subject/>
  <dc:title>Do you think that FedEx Kinko’s provides a large amount of its services to its customers on account?</dc:title>
</cp:coreProperties>
</file>